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D37-634D-464F-A94B-37B461E8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31D-E683-46F6-8A9F-37FB00F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188-6299-4104-96C3-2FBE5FD6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8F5-6495-45B8-9C1F-B5F9050B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D844-8942-4CF8-A2DC-FA5D0676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A9A-2570-4E51-BC59-E9FA5527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DAC8-2C72-46AF-9153-A8A849EE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A2BA-841E-4785-B89B-0B201BF2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89D9-38AD-44EA-93EA-BCC4AA2C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A04F-0F58-4362-B8AA-6C189AAF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5F12-F8A8-4C40-BCBE-38286AA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151-93DF-427B-9FC5-4FC2EF1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AA53-E380-4B1B-90A9-BA262A5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1164-7A91-4E83-B470-010AD4B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3F0-A8A2-453C-B2F5-0EB9D6AF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1B5-E2A3-4EE2-BD75-263DC010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3007-5335-40FA-831E-426ED233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8A2-99F6-4E83-BDA2-DACA0BA8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B5D-B979-4D1C-A37B-0EFC7F38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E61-99E8-400A-BCBC-B2EEBED1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A95-A6A4-4B25-91A5-C35FFB3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6E5-F328-4401-A868-2FB8F957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59A-4165-4232-9D35-DAAF850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B1B-FA9E-492C-9336-0CD1445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E01-9A46-4504-B6C7-559C37443B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FF9-D9A7-4663-BAE8-9500E099A6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6000" y="169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ЭТИ ЗАМЕЧАТЕЛЬНЫЕ ЧИС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110417"/>
          <p:cNvPicPr/>
          <p:nvPr/>
        </p:nvPicPr>
        <p:blipFill>
          <a:blip r:embed="rId1"/>
          <a:stretch/>
        </p:blipFill>
        <p:spPr>
          <a:xfrm rot="538800">
            <a:off x="6732720" y="18900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263847580_cifry"/>
          <p:cNvPicPr/>
          <p:nvPr/>
        </p:nvPicPr>
        <p:blipFill>
          <a:blip r:embed="rId2"/>
          <a:stretch/>
        </p:blipFill>
        <p:spPr>
          <a:xfrm rot="20991000">
            <a:off x="324000" y="3645000"/>
            <a:ext cx="288108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7696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овополагающий вопрос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Натуральные числа – так ли они прос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облемные вопросы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Как, когда и где появилось числ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Какая система счисления лучш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Есть ли названия у натураль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чисе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3815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Умеют ли числа дружи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3815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f38153"/>
                </a:solidFill>
                <a:latin typeface="Comic Sans MS"/>
              </a:rPr>
              <a:t>Имеют ли числа форму?</a:t>
            </a:r>
            <a:r>
              <a:rPr b="0" lang="ru-RU" sz="3200" spc="-1" strike="noStrike">
                <a:solidFill>
                  <a:srgbClr val="f3815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Что такое система счисле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ие системы счисления бываю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 переводить числа из одной системы счисления в другую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ие числа считают близнеца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Дружественное число или совершенное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Бывают ли числа фигурны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Какие числа относятся к обращенны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             </a:t>
            </a:r>
            <a:r>
              <a:rPr b="0" lang="ru-RU" sz="3200" spc="-1" strike="noStrike">
                <a:solidFill>
                  <a:srgbClr val="13aed3"/>
                </a:solidFill>
                <a:latin typeface="Comic Sans MS"/>
              </a:rPr>
              <a:t>и палиндромическим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5040360" cy="1656000"/>
          </a:xfrm>
          <a:prstGeom prst="rect">
            <a:avLst/>
          </a:prstGeom>
          <a:solidFill>
            <a:srgbClr val="52f04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астники проект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Учащиеся 6-7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5600" y="3357720"/>
            <a:ext cx="6260040" cy="11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дмет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Математика, информа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j0195384"/>
          <p:cNvPicPr/>
          <p:nvPr/>
        </p:nvPicPr>
        <p:blipFill>
          <a:blip r:embed="rId1"/>
          <a:stretch/>
        </p:blipFill>
        <p:spPr>
          <a:xfrm rot="839400">
            <a:off x="6732360" y="4508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4"/>
          <p:cNvPicPr/>
          <p:nvPr/>
        </p:nvPicPr>
        <p:blipFill>
          <a:blip r:embed="rId2"/>
          <a:stretch/>
        </p:blipFill>
        <p:spPr>
          <a:xfrm>
            <a:off x="2050920" y="465300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2"/>
          <p:cNvPicPr/>
          <p:nvPr/>
        </p:nvPicPr>
        <p:blipFill>
          <a:blip r:embed="rId3"/>
          <a:stretch/>
        </p:blipFill>
        <p:spPr>
          <a:xfrm rot="20914800">
            <a:off x="6084360" y="836280"/>
            <a:ext cx="1795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1309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260280"/>
            <a:ext cx="828036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После завершения проекта учащиеся смогу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пределять системы счисления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переводить числа из одной системы счисления в другую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пределить принадлежность натурального числа к количеству или номеру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пределять принадлежность натурального числа к числам – близнецам, дружественным, совершенным, палиндромическим и обращенным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находить нужную информацию в различных источниках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50920" y="5013360"/>
            <a:ext cx="525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d2a1b"/>
                </a:solidFill>
                <a:latin typeface="Comic Sans MS"/>
              </a:rPr>
              <a:t>- оформлять результаты в виде буклетов, презентаций в среде Microsoft Of</a:t>
            </a:r>
            <a:r>
              <a:rPr b="0" lang="en-US" sz="2600" spc="-1" strike="noStrike">
                <a:solidFill>
                  <a:srgbClr val="ed2a1b"/>
                </a:solidFill>
                <a:latin typeface="Comic Sans MS"/>
              </a:rPr>
              <a:t>f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Цели проект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расширение кругозора  дете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способствовать развитию познавательной деятельности воспитанник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формировать умение использовать различные источники информации, в том числе, Интерн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Приобретение навыков работы в команд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приобретение навыков работы с большим объёмом информации, выделять главно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Научить пользоваться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MS Publisher</a:t>
            </a: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Power Point</a:t>
            </a: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 для оформления результат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формировать коммуникативные навык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- оформление результатов исследования (буклеты, презентации, почётные грамоты лучшим участникам проек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2124000" y="5661000"/>
            <a:ext cx="583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0123456789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65412"/>
          <p:cNvPicPr/>
          <p:nvPr/>
        </p:nvPicPr>
        <p:blipFill>
          <a:blip r:embed="rId1"/>
          <a:stretch/>
        </p:blipFill>
        <p:spPr>
          <a:xfrm>
            <a:off x="5651640" y="342900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696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В ХОДЕ ПРОЕКТА УЧАЩИЕ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УЗНАЮТ О СИСТЕМ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СЧИСЛЕНИЯ, О ТОМ, К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ПЕРЕВОДИТЬ ЧИСЛА ИЗ ОДН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СИСТЕМЫ СЧИСЛЕНИЯ В ДРУГУЮ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ТАКЖЕ УГЛУБЯТ СВОИ ЗНАНИЯ 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omic Sans MS"/>
              </a:rPr>
              <a:t>НАТУРАЛЬНЫХ ЧИСЛ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763640" y="393372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Comic Sans MS"/>
              </a:rPr>
              <a:t>Результаты своих исследований они оформят в вид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Comic Sans MS"/>
              </a:rPr>
              <a:t>буклетов                                                 и презента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9:13:31Z</dcterms:created>
  <dc:creator>Admin</dc:creator>
  <dc:description/>
  <dc:language>en-US</dc:language>
  <cp:lastModifiedBy>Admin</cp:lastModifiedBy>
  <dcterms:modified xsi:type="dcterms:W3CDTF">2010-05-16T09:31:28Z</dcterms:modified>
  <cp:revision>13</cp:revision>
  <dc:subject/>
  <dc:title>ЭТИ ЗАМЕЧАТЕЛЬНЫЕ ЧИСЛА</dc:title>
</cp:coreProperties>
</file>